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6.gif" ContentType="image/gif"/>
  <Override PartName="/ppt/media/image1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2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3CF-2DE9-46F1-B650-95DFAD1B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217-0CBA-4AC2-AC10-7B8863D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C91-5939-4694-B3E7-03AB4C88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97F-7A48-4373-9385-5E0E1C94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A53-FCD0-45BA-B651-6D3212F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BB6-AAD9-45FF-A7E5-7C69F8CC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D39-463F-43C4-A010-36B3D5C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968-D190-46EB-AAD4-C46A6CA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6D2-F440-4DC2-8E12-91749D1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57C-9668-4512-BC0A-C4304E8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280-30CD-4E11-AF83-FB04A4E3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D79-D189-4857-8E9B-65307A2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5DA6-9D57-496F-91E1-63912705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istory of the Atomic Theo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564_" descr=""/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273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J.J. Thomson: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nglish Physicist 189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electricity i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thode ray tube (vacuum tub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pg 3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Atoms are not indivi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A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ga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ged subatomic particle now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e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Atoms are neutral. Therefore, atoms must be made up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s of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_J_Thomson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193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J.J. Thom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45756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86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 Model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Plum Pud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alton &amp; Greek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ith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gative a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itiv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plums”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e-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 unknow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udd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1902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i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was found to be made of subatomic particles called prot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3276720" cy="327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2860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-  e-  e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200400"/>
            <a:ext cx="243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-  e-  e- e- e-  e-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105520"/>
            <a:ext cx="99072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6095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itive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990360" y="1523520"/>
            <a:ext cx="22860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0" y="111600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gative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rnest Rutherford: English Physicist 19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2320" y="838080"/>
            <a:ext cx="6781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ositive (+) radioactive particles shot at a piece gold foil (10,000 atoms thic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page 3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.99% of the particles went straigh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ere deflected, some bounced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toms are 99.99%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empty 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tiny, dense </a:t>
            </a: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100,000 the size of the entire 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utherford1" descr=""/>
          <p:cNvPicPr/>
          <p:nvPr/>
        </p:nvPicPr>
        <p:blipFill>
          <a:blip r:embed="rId2"/>
          <a:stretch/>
        </p:blipFill>
        <p:spPr>
          <a:xfrm>
            <a:off x="0" y="8380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rutherford-atom" descr=""/>
          <p:cNvPicPr/>
          <p:nvPr/>
        </p:nvPicPr>
        <p:blipFill>
          <a:blip r:embed="rId3"/>
          <a:stretch/>
        </p:blipFill>
        <p:spPr>
          <a:xfrm>
            <a:off x="0" y="3200400"/>
            <a:ext cx="2286000" cy="23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ff"/>
                </a:solidFill>
                <a:latin typeface="Arial"/>
              </a:rPr>
              <a:t>Niels Bohr: </a:t>
            </a:r>
            <a:br>
              <a:rPr sz="4400"/>
            </a:br>
            <a:r>
              <a:rPr b="1" lang="en-US" sz="4400" spc="-1" strike="noStrike">
                <a:solidFill>
                  <a:srgbClr val="9966ff"/>
                </a:solidFill>
                <a:latin typeface="Arial"/>
              </a:rPr>
              <a:t>Danish physicist 19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electrons (e-) orbit (move around) the nucleu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e- make l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ohr_Niels" descr=""/>
          <p:cNvPicPr/>
          <p:nvPr/>
        </p:nvPicPr>
        <p:blipFill>
          <a:blip r:embed="rId2"/>
          <a:stretch/>
        </p:blipFill>
        <p:spPr>
          <a:xfrm>
            <a:off x="212760" y="1905120"/>
            <a:ext cx="26827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iels Bo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lectrons (e-) orbit the nucleus in specif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plan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lectrons stay in their orbits until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 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ex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- jump to a higher energ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nergy is given off when they return to their original orbit, often in the form of visible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Bohr Atom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ohrModel_l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4572000" cy="45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ave or Cloud Model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work of many 20th centur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“atom smashes”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the inside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tom-smasher-gold-collision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351648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Wave or Cloud Atom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ade of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lectrons (e-) travel in clouds or waves of energy around th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lectrons (e-) can never be located exa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95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thing in their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cks, plants, animals, the sky,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to know about everything in the world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01713_" descr=""/>
          <p:cNvPicPr/>
          <p:nvPr/>
        </p:nvPicPr>
        <p:blipFill>
          <a:blip r:embed="rId2"/>
          <a:stretch/>
        </p:blipFill>
        <p:spPr>
          <a:xfrm>
            <a:off x="0" y="251460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52320" y="990720"/>
            <a:ext cx="5791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of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tom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was ma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powerful forces or spir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f and controlled by mysterious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the sweat and tears from the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was from 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e01712_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768760" cy="2837160"/>
          </a:xfrm>
          <a:prstGeom prst="rect">
            <a:avLst/>
          </a:prstGeom>
          <a:ln w="0">
            <a:noFill/>
          </a:ln>
        </p:spPr>
      </p:pic>
      <p:pic>
        <p:nvPicPr>
          <p:cNvPr id="50" name="ag00410_" descr=""/>
          <p:cNvPicPr/>
          <p:nvPr/>
        </p:nvPicPr>
        <p:blipFill>
          <a:blip r:embed="rId3"/>
          <a:stretch/>
        </p:blipFill>
        <p:spPr>
          <a:xfrm>
            <a:off x="304920" y="914400"/>
            <a:ext cx="2193840" cy="27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reeks/Romans: 700 BC to 500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040" y="533520"/>
            <a:ext cx="7086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veryth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every culture in a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ystema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logi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lieved that the world was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logical,</a:t>
            </a:r>
            <a:r>
              <a:rPr b="1" lang="en-US" sz="26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rational</a:t>
            </a:r>
            <a:r>
              <a:rPr b="1" lang="en-US" sz="26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predic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verse could and should be studied and understo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carefully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observ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hink abo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nature of matt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eba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others to further knowl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What is everything made of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ow small is the smallest piece of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How and why does matter change form and appearan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istotle" descr=""/>
          <p:cNvPicPr/>
          <p:nvPr/>
        </p:nvPicPr>
        <p:blipFill>
          <a:blip r:embed="rId2"/>
          <a:stretch/>
        </p:blipFill>
        <p:spPr>
          <a:xfrm>
            <a:off x="0" y="6858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bd10877_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173052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eeks/Romans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made up of extremely small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divi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s called atoms(can’t c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ubstances are made up of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, shape and color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are alway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v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ha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qu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c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joi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 and b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pa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seems to be an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ost Greeks believed in Aristotle's idea that matter was composed of the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4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e, water, air and ear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tom1" descr=""/>
          <p:cNvPicPr/>
          <p:nvPr/>
        </p:nvPicPr>
        <p:blipFill>
          <a:blip r:embed="rId2"/>
          <a:stretch/>
        </p:blipFill>
        <p:spPr>
          <a:xfrm>
            <a:off x="7315200" y="0"/>
            <a:ext cx="11955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atom1" descr=""/>
          <p:cNvPicPr/>
          <p:nvPr/>
        </p:nvPicPr>
        <p:blipFill>
          <a:blip r:embed="rId3"/>
          <a:stretch/>
        </p:blipFill>
        <p:spPr>
          <a:xfrm>
            <a:off x="380880" y="0"/>
            <a:ext cx="1055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chemists (Medieval Scientists)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00 AD to 1500 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turn lead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make the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“Elixir of Life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find the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“Sorcerer’s ston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aly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emical and physical properties of almost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come rich, cure diseases and live for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Were they successful?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Alchemists: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1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Chemis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76720" y="1142640"/>
            <a:ext cx="5867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ew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e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ll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aboratory tools and scientific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ept everything a secr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st believed that everything was made of the 4 elements and “magic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d10917_" descr=""/>
          <p:cNvPicPr/>
          <p:nvPr/>
        </p:nvPicPr>
        <p:blipFill>
          <a:blip r:embed="rId2"/>
          <a:stretch/>
        </p:blipFill>
        <p:spPr>
          <a:xfrm>
            <a:off x="0" y="213372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John Dalto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&amp; other 18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&amp;19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century Scient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Science teacher, who’s hobby was to study meteorology and chem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is 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as molec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(gas) is compressible &amp; expan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are mostly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ydrogen (H) atoms and One Oxygen (O)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ohn-dalton" descr=""/>
          <p:cNvPicPr/>
          <p:nvPr/>
        </p:nvPicPr>
        <p:blipFill>
          <a:blip r:embed="rId2"/>
          <a:stretch/>
        </p:blipFill>
        <p:spPr>
          <a:xfrm>
            <a:off x="0" y="762120"/>
            <a:ext cx="205740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Hydrogen-atom" descr=""/>
          <p:cNvPicPr/>
          <p:nvPr/>
        </p:nvPicPr>
        <p:blipFill>
          <a:blip r:embed="rId3"/>
          <a:stretch/>
        </p:blipFill>
        <p:spPr>
          <a:xfrm>
            <a:off x="0" y="3809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Dalto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&amp; other 18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&amp; 19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entury Scienti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 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milar to the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Gree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a few add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made of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are made of only one kind of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elements are made of atoms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, shape, and co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are alway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combine to form mixtures that can be easily separated (like gases in 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can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chem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e to form compounds (like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 that are harder to sepa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 Gases are mostly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 with very fast moving atoms o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7551</cp:lastModifiedBy>
  <dcterms:modified xsi:type="dcterms:W3CDTF">2003-01-24T02:10:52Z</dcterms:modified>
  <cp:revision>1</cp:revision>
  <dc:subject/>
  <dc:title>History of the Atomic Theory</dc:title>
</cp:coreProperties>
</file>