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gif" ContentType="image/gif"/>
  <Override PartName="/ppt/media/image3.jpeg" ContentType="image/jpeg"/>
  <Override PartName="/ppt/media/image4.png" ContentType="image/png"/>
  <Override PartName="/ppt/media/image6.gif" ContentType="image/gi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AE87-FFE2-4F82-8F91-488A25DF7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369C-A7E9-4550-9088-31ED03A3D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C787-9034-4CA0-9EEE-32A17B98B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2321-0599-451D-A3B0-1893B9975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18C6-5F8C-4444-8CF2-1AC74BBA9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17EC-0E80-4154-9D56-126D55253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5826-9F3C-4071-9717-0CFB6C6D1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F11F-0893-42AA-808E-8000F9D2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6BB4-E780-468E-94E0-D79300BF1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6916-CA05-4854-8730-F8DE4A2C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EAAB-DE8D-44BD-A399-1D582FE3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EADB-A032-487B-800E-B1DFA519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7EC41-CE52-45E1-ABB5-EC3DD3EFFD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447560"/>
            <a:ext cx="85345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Arial"/>
              </a:rPr>
              <a:t>Atoms &amp; the Periodic Tabl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Arial"/>
              </a:rPr>
              <a:t>Chapter 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ATOM%20move%202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44" name="animated_atom" descr=""/>
          <p:cNvPicPr/>
          <p:nvPr/>
        </p:nvPicPr>
        <p:blipFill>
          <a:blip r:embed="rId2"/>
          <a:stretch/>
        </p:blipFill>
        <p:spPr>
          <a:xfrm>
            <a:off x="7162920" y="304920"/>
            <a:ext cx="1485720" cy="1371600"/>
          </a:xfrm>
          <a:prstGeom prst="rect">
            <a:avLst/>
          </a:prstGeom>
          <a:ln w="0">
            <a:noFill/>
          </a:ln>
        </p:spPr>
      </p:pic>
      <p:pic>
        <p:nvPicPr>
          <p:cNvPr id="45" name="color%20atom" descr=""/>
          <p:cNvPicPr/>
          <p:nvPr/>
        </p:nvPicPr>
        <p:blipFill>
          <a:blip r:embed="rId3"/>
          <a:stretch/>
        </p:blipFill>
        <p:spPr>
          <a:xfrm>
            <a:off x="380880" y="4648320"/>
            <a:ext cx="1841760" cy="1638360"/>
          </a:xfrm>
          <a:prstGeom prst="rect">
            <a:avLst/>
          </a:prstGeom>
          <a:ln w="0">
            <a:noFill/>
          </a:ln>
        </p:spPr>
      </p:pic>
      <p:pic>
        <p:nvPicPr>
          <p:cNvPr id="46" name="3%20ring%20atom%201" descr=""/>
          <p:cNvPicPr/>
          <p:nvPr/>
        </p:nvPicPr>
        <p:blipFill>
          <a:blip r:embed="rId4"/>
          <a:stretch/>
        </p:blipFill>
        <p:spPr>
          <a:xfrm>
            <a:off x="6629400" y="4572000"/>
            <a:ext cx="2057400" cy="1469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What is an ato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00400" y="1371600"/>
            <a:ext cx="5943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The building blocks of mat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The smallest particle of an element with all the properties of that el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Diameter = 0.00000003 c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Each element is made up of a different kind of at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Around 90 naturally occurring elements, (20+ manmad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animated_atom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2895480" cy="35164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What are the parts of an ato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81532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toms are made up 2 parts, consisting of 3 subatomic particl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1</a:t>
            </a:r>
            <a:r>
              <a:rPr b="0" lang="en-US" sz="2800" spc="-1" strike="noStrike" u="sng">
                <a:solidFill>
                  <a:srgbClr val="ff0066"/>
                </a:solidFill>
                <a:uFillTx/>
                <a:latin typeface="Arial"/>
              </a:rPr>
              <a:t>)The Nucle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Proton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sitive,1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Neutr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neutral,1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0" lang="en-US" sz="2800" spc="-1" strike="noStrike" u="sng">
                <a:solidFill>
                  <a:srgbClr val="ff0066"/>
                </a:solidFill>
                <a:uFillTx/>
                <a:latin typeface="Arial"/>
              </a:rPr>
              <a:t>) The Energy 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Electr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neg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/1,700 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Atomstructure" descr=""/>
          <p:cNvPicPr/>
          <p:nvPr/>
        </p:nvPicPr>
        <p:blipFill>
          <a:blip r:embed="rId1"/>
          <a:stretch/>
        </p:blipFill>
        <p:spPr>
          <a:xfrm>
            <a:off x="4952880" y="2362320"/>
            <a:ext cx="3962520" cy="41907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"/>
              </a:rPr>
              <a:t>How are atoms differe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733920" y="1371240"/>
            <a:ext cx="5410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Each element is unique because its atoms have a different number of protons, neutrons and electrons than the other elements ato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The number of protons define which atom it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Atoms of an elements all have the same number of prot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The number of neutrons can vary and make it radioac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A neutral atom has an equal number of protons and electr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Atom-02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3429000" cy="41148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"/>
              </a:rPr>
              <a:t>What is an Isotop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419720" y="1981080"/>
            <a:ext cx="441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An atom with the same number of protons but a different number of neutrons (mass #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Isotopes can have unique proper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Many isotopes are radioact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isotopes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4114800" cy="44193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"/>
              </a:rPr>
              <a:t>What is the Periodic Tab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90920" y="761760"/>
            <a:ext cx="63244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An organized and informative arrangement of all the known el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Developed in the 1860’s by </a:t>
            </a: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Dmitri Mendeleev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Mendeleev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 used the elements’ atomic masses and chemical &amp; physical properties to organize his periodic 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Improved upon by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Henry Moseley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 in 191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Moseley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 used the elements’ atomic numbers &amp; properties to organize his periodic 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MENDELEEV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2133720" cy="3048120"/>
          </a:xfrm>
          <a:prstGeom prst="rect">
            <a:avLst/>
          </a:prstGeom>
          <a:ln w="0">
            <a:noFill/>
          </a:ln>
        </p:spPr>
      </p:pic>
      <p:pic>
        <p:nvPicPr>
          <p:cNvPr id="62" name="moseley" descr=""/>
          <p:cNvPicPr/>
          <p:nvPr/>
        </p:nvPicPr>
        <p:blipFill>
          <a:blip r:embed="rId2"/>
          <a:stretch/>
        </p:blipFill>
        <p:spPr>
          <a:xfrm>
            <a:off x="0" y="3886200"/>
            <a:ext cx="2514600" cy="27432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"/>
              </a:rPr>
              <a:t>How is it organiz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By atomic nu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protons. From 1 to 112+ prot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By periods or row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 of energy levels. From 1 to 7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By Groups or Famil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 of e- in outer energy lev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ed valence e-. From 1 to 18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similar physical &amp; chemical proper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 Meta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left side), 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Nonmetal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right side) &amp; 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Metalloid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on either side of the stairca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"/>
              </a:rPr>
              <a:t>Physical and Chemical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28600" y="1143000"/>
          <a:ext cx="8686440" cy="5486040"/>
        </p:xfrm>
        <a:graphic>
          <a:graphicData uri="http://schemas.openxmlformats.org/drawingml/2006/table">
            <a:tbl>
              <a:tblPr/>
              <a:tblGrid>
                <a:gridCol w="2895480"/>
                <a:gridCol w="2895480"/>
                <a:gridCol w="2895480"/>
              </a:tblGrid>
              <a:tr h="91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>
            <a:off x="3657600" y="1295280"/>
            <a:ext cx="178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Metallo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90720" y="20224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12193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Met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00800" y="12952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Nonmet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981080"/>
            <a:ext cx="251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solids 1 liquid (1gas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52680" y="20574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Sol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5880" y="205740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s, liquids and g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29718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shiny (lus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24080" y="3048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iny or dull col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172200" y="3124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ll or color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380988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leable and duct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429000" y="3886200"/>
            <a:ext cx="2209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3809880"/>
            <a:ext cx="26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leable and duct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5880" y="38098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malleable or duct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48769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00400" y="48769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um Den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24480" y="487692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Den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57913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Condu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76720" y="58672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micondu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248520" y="594360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5880" y="58672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or Condu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"/>
              </a:rPr>
              <a:t>Physical and Chemical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8600" y="1143000"/>
          <a:ext cx="8686440" cy="5486040"/>
        </p:xfrm>
        <a:graphic>
          <a:graphicData uri="http://schemas.openxmlformats.org/drawingml/2006/table">
            <a:tbl>
              <a:tblPr/>
              <a:tblGrid>
                <a:gridCol w="2895480"/>
                <a:gridCol w="2895480"/>
                <a:gridCol w="2895480"/>
              </a:tblGrid>
              <a:tr h="91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>
            <a:off x="3657600" y="1295280"/>
            <a:ext cx="178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Metallo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90720" y="20224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12193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Met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12952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Nonmet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1981080"/>
            <a:ext cx="251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Melting 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52680" y="2057400"/>
            <a:ext cx="251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rate Melting 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5880" y="205740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Melting 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29718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 Valence #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3048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d Valence #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72200" y="3124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 Valence #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380988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up 1 &amp; 2 reactive with nonmet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3886200"/>
            <a:ext cx="2209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00400" y="3809880"/>
            <a:ext cx="26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very rea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3809880"/>
            <a:ext cx="2895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up 16&amp; 17 reac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up 18 not reac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472428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osive (rust, tarnis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00400" y="48769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corros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487692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corros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57913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s allo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594360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5867280"/>
            <a:ext cx="2819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9:09:44Z</dcterms:created>
  <dc:creator>Valued Gateway Client</dc:creator>
  <dc:description/>
  <dc:language>en-US</dc:language>
  <cp:lastModifiedBy>117551</cp:lastModifiedBy>
  <dcterms:modified xsi:type="dcterms:W3CDTF">2003-01-24T02:10:01Z</dcterms:modified>
  <cp:revision>19</cp:revision>
  <dc:subject/>
  <dc:title>Atoms &amp; the Periodic Table</dc:title>
</cp:coreProperties>
</file>