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255-5B41-4757-91D0-965E51BF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705-E9F8-4D6F-8FA7-5673C8B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BCE-A831-471A-B25E-9290AA86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D2D-D307-480C-B67D-57A79A8B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8C4-AD0C-4DA6-8595-7713893C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C78-D201-441B-AEAB-38B7F0E0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9AD-6EB9-461B-B13F-07E4CA16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BBA-D5C1-4A42-BEC4-7C09BE5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0F2-D54A-471C-8E52-D09F65B4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FDC-3F71-49EF-9AA5-E05D5FFA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740-949A-416E-BEA0-6AB088B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091-DB41-44E7-A7B5-4B78904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A588-914C-46D3-8BAF-E2DA8CB84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mistry_lady" descr=""/>
          <p:cNvPicPr/>
          <p:nvPr/>
        </p:nvPicPr>
        <p:blipFill>
          <a:blip r:embed="rId2"/>
          <a:srcRect l="0" t="0" r="5827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Chemical Bonds and Chemical Reac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I. What is a Chemical Bo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rce of attraction that holds the atoms of a compound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rce is a result of the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pr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p+) of one atom being attracted to the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lence (outer) </a:t>
            </a: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e-) of the other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oms “try” to fill their outer energy level 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- (except H &amp; He which need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3 main types of chemical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) Covalent Bo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valence e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shar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twee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toms to fill their outer energy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valent bonds form betwee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nonme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Example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: H2, CO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O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, H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O, Cl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h2-covalent" descr=""/>
          <p:cNvPicPr/>
          <p:nvPr/>
        </p:nvPicPr>
        <p:blipFill>
          <a:blip r:embed="rId2"/>
          <a:stretch/>
        </p:blipFill>
        <p:spPr>
          <a:xfrm>
            <a:off x="685800" y="3497400"/>
            <a:ext cx="38098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2) Ionic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43040" y="16765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valence e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transferr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tween the different atoms to fill their outer energy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 between a metal and a nonm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s: KI, NaCl, FeO2, Mg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alt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381024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onic Bond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s up the e- and the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nonmet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akes the e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forms charged atoms call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ome    </a:t>
            </a:r>
            <a:r>
              <a:rPr b="1" lang="en-US" sz="2800" spc="-1" strike="noStrike">
                <a:solidFill>
                  <a:srgbClr val="9933ff"/>
                </a:solidFill>
                <a:latin typeface="Comic Sans MS"/>
              </a:rPr>
              <a:t>+ 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- 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2Oreact" descr=""/>
          <p:cNvPicPr/>
          <p:nvPr/>
        </p:nvPicPr>
        <p:blipFill>
          <a:blip r:embed="rId2"/>
          <a:stretch/>
        </p:blipFill>
        <p:spPr>
          <a:xfrm>
            <a:off x="685800" y="2411280"/>
            <a:ext cx="3809880" cy="3254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ovalent vs. Ionic Bo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onic-covalent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6095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an you tell the dif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3) Metallic Bo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9880" y="11430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000" spc="-1" strike="noStrike">
                <a:solidFill>
                  <a:srgbClr val="9933ff"/>
                </a:solidFill>
                <a:latin typeface="Comic Sans MS"/>
              </a:rPr>
              <a:t>valence e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shared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freely between all the different ato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rms between </a:t>
            </a: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met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Malleabl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(can be hammered into sheet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Ductil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(can be twisted into a wir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Conductor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(transfers heat energy easil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kinetic%20art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505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neutral (no charge) group of atoms held together by covalent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st molecules are called diatomic (two atoms of the same element bonded toge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x is at least two different atoms bo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olecule" descr=""/>
          <p:cNvPicPr/>
          <p:nvPr/>
        </p:nvPicPr>
        <p:blipFill>
          <a:blip r:embed="rId2"/>
          <a:stretch/>
        </p:blipFill>
        <p:spPr>
          <a:xfrm>
            <a:off x="0" y="1371600"/>
            <a:ext cx="4597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21:31:03Z</dcterms:created>
  <dc:creator>Eduacation Dept</dc:creator>
  <dc:description/>
  <dc:language>en-US</dc:language>
  <cp:lastModifiedBy>117551</cp:lastModifiedBy>
  <dcterms:modified xsi:type="dcterms:W3CDTF">2002-12-12T20:59:54Z</dcterms:modified>
  <cp:revision>14</cp:revision>
  <dc:subject/>
  <dc:title>Chemical Bonds and Chemical Reactions    Chapter 12</dc:title>
</cp:coreProperties>
</file>