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EAB-92CD-4E5F-9B16-0725CEAC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A18-8B67-4E68-B2D5-8B1FD8C1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F36-C142-4B47-A2BB-E28457B1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303-F958-4BD2-B977-B80B556E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8A8-97B3-4727-9001-7E69CADE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45E-036E-487E-A797-EE19A9B1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C3D-0360-470C-A3B5-5EAA325B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39E-888E-400F-8584-A46ACF26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AB7-56DF-46F0-A299-9D2B75ED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7F0-DB2C-45C7-B936-2508C87F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D09-559B-458E-8714-9E229BE2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F3F-4DE0-40DB-90FD-4A6F0A61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13F0-1C5A-4920-8B36-6D69EB844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Introduction to the World of Physical Sci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Comic Sans MS"/>
              </a:rPr>
              <a:t>Chapte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cc"/>
                </a:solidFill>
                <a:uFillTx/>
                <a:latin typeface="Comic Sans MS"/>
              </a:rPr>
              <a:t>Scientific Metho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04960" y="1371600"/>
            <a:ext cx="5638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 is the Scientific Metho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A series of steps used by scientists to solv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m00363_" descr=""/>
          <p:cNvPicPr/>
          <p:nvPr/>
        </p:nvPicPr>
        <p:blipFill>
          <a:blip r:embed="rId2"/>
          <a:stretch/>
        </p:blipFill>
        <p:spPr>
          <a:xfrm>
            <a:off x="0" y="1752480"/>
            <a:ext cx="348156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00cc"/>
                </a:solidFill>
                <a:uFillTx/>
                <a:latin typeface="Comic Sans MS"/>
              </a:rPr>
              <a:t>Scientific Method Ste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62160" y="1523520"/>
            <a:ext cx="5181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roblem or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Helps you to focus your investig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Based on observ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s00559_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3295800" cy="335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00cc"/>
                </a:solidFill>
                <a:uFillTx/>
                <a:latin typeface="Comic Sans MS"/>
              </a:rPr>
              <a:t>Scientific Method Ste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2) Form a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Your educated guess to solve your problem or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It can be wrong, but must be log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s00554_" descr=""/>
          <p:cNvPicPr/>
          <p:nvPr/>
        </p:nvPicPr>
        <p:blipFill>
          <a:blip r:embed="rId2"/>
          <a:stretch/>
        </p:blipFill>
        <p:spPr>
          <a:xfrm>
            <a:off x="0" y="1828800"/>
            <a:ext cx="3429000" cy="387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00cc"/>
                </a:solidFill>
                <a:uFillTx/>
                <a:latin typeface="Comic Sans MS"/>
              </a:rPr>
              <a:t>Scientific Method Ste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0496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3) Test the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Design an Experiment to see if your hypothesis is corr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Uses Controls and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e01460_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257508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pe01561_" descr=""/>
          <p:cNvPicPr/>
          <p:nvPr/>
        </p:nvPicPr>
        <p:blipFill>
          <a:blip r:embed="rId3"/>
          <a:stretch/>
        </p:blipFill>
        <p:spPr>
          <a:xfrm>
            <a:off x="0" y="1295280"/>
            <a:ext cx="3352680" cy="222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00cc"/>
                </a:solidFill>
                <a:uFillTx/>
                <a:latin typeface="Comic Sans MS"/>
              </a:rPr>
              <a:t>Scientific Method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9880" y="1447920"/>
            <a:ext cx="5029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4) Analyze the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What data did your experiment give yo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How does it relate to your hypothe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s02064_" descr=""/>
          <p:cNvPicPr/>
          <p:nvPr/>
        </p:nvPicPr>
        <p:blipFill>
          <a:blip r:embed="rId2"/>
          <a:stretch/>
        </p:blipFill>
        <p:spPr>
          <a:xfrm>
            <a:off x="0" y="2589120"/>
            <a:ext cx="3429000" cy="341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00cc"/>
                </a:solidFill>
                <a:uFillTx/>
                <a:latin typeface="Comic Sans MS"/>
              </a:rPr>
              <a:t>Scientific Method Ste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66720" y="1066320"/>
            <a:ext cx="4876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Comic Sans MS"/>
              </a:rPr>
              <a:t>5) Draw Conclusion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Comic Sans MS"/>
              </a:rPr>
              <a:t>Did your data and results support your hypothesis?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Comic Sans MS"/>
              </a:rPr>
              <a:t>Do you need to change your experiment or check for errors?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idea.4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3276720" cy="487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00cc"/>
                </a:solidFill>
                <a:uFillTx/>
                <a:latin typeface="Comic Sans MS"/>
              </a:rPr>
              <a:t>Scientific Method Ste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14800" y="1066320"/>
            <a:ext cx="5029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6) Communicate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Peer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Publish to share with o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Can others recreate your experi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e02097_" descr=""/>
          <p:cNvPicPr/>
          <p:nvPr/>
        </p:nvPicPr>
        <p:blipFill>
          <a:blip r:embed="rId2"/>
          <a:stretch/>
        </p:blipFill>
        <p:spPr>
          <a:xfrm>
            <a:off x="0" y="2514600"/>
            <a:ext cx="3809880" cy="305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Comic Sans MS"/>
              </a:rPr>
              <a:t>Scientific Method Miscon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Do you </a:t>
            </a:r>
            <a:r>
              <a:rPr b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lways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use these steps in that order to solve proble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430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Scientists use whatever logical order needed to solve their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Research often leads to new hypotheses which require further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2:53:06Z</dcterms:created>
  <dc:creator>sbhsuser</dc:creator>
  <dc:description/>
  <dc:language>en-US</dc:language>
  <cp:lastModifiedBy>sbhsuser</cp:lastModifiedBy>
  <dcterms:modified xsi:type="dcterms:W3CDTF">2002-02-12T02:25:05Z</dcterms:modified>
  <cp:revision>7</cp:revision>
  <dc:subject/>
  <dc:title>Introduction to the World of Physical Science</dc:title>
</cp:coreProperties>
</file>