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849-5BDA-4B0F-A092-42B9B1AD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376-DA19-48A4-B797-BF0DACC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A70-FC66-464E-A386-741148C7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22F-F93D-4960-AD9E-5A00EFCE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7E2-0696-4AC2-97AC-7750A56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C25-6738-469A-8997-22296E8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E4F-5674-4E43-A61A-F7933635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800-A9FF-4E9E-A3CD-679D3D7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F29-9977-4F5C-9536-FD7092C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CC5-3407-4390-B00C-42514F0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1E8-1C7F-4B2E-8EDC-7D59E4C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56E-166F-410D-9019-DC8A3B1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BA77-68E1-4E53-BAA8-177F47CD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3960" y="11426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u="sng">
                <a:solidFill>
                  <a:srgbClr val="000000"/>
                </a:solidFill>
                <a:uFillTx/>
                <a:latin typeface="Comic Sans MS"/>
              </a:rPr>
              <a:t>Atom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tom1" descr=""/>
          <p:cNvPicPr/>
          <p:nvPr/>
        </p:nvPicPr>
        <p:blipFill>
          <a:blip r:embed="rId2"/>
          <a:stretch/>
        </p:blipFill>
        <p:spPr>
          <a:xfrm>
            <a:off x="228600" y="0"/>
            <a:ext cx="161784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atom1" descr=""/>
          <p:cNvPicPr/>
          <p:nvPr/>
        </p:nvPicPr>
        <p:blipFill>
          <a:blip r:embed="rId3"/>
          <a:stretch/>
        </p:blipFill>
        <p:spPr>
          <a:xfrm>
            <a:off x="7526160" y="0"/>
            <a:ext cx="161784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atom2_" descr=""/>
          <p:cNvPicPr/>
          <p:nvPr/>
        </p:nvPicPr>
        <p:blipFill>
          <a:blip r:embed="rId4"/>
          <a:stretch/>
        </p:blipFill>
        <p:spPr>
          <a:xfrm>
            <a:off x="3206880" y="2895480"/>
            <a:ext cx="2728800" cy="27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an At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mallest part of an element that has all the properties of a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tom-graphic2" descr=""/>
          <p:cNvPicPr/>
          <p:nvPr/>
        </p:nvPicPr>
        <p:blipFill>
          <a:blip r:embed="rId2"/>
          <a:stretch/>
        </p:blipFill>
        <p:spPr>
          <a:xfrm>
            <a:off x="3240" y="1600200"/>
            <a:ext cx="4568760" cy="4835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486400"/>
            <a:ext cx="4038480" cy="1371600"/>
          </a:xfrm>
          <a:prstGeom prst="leftArrow">
            <a:avLst>
              <a:gd name="adj1" fmla="val 47222"/>
              <a:gd name="adj2" fmla="val 97218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at’s pretty smal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are the parts of an At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 the nucleus (cen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rot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positively charged partic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utr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neutral charged part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side the nucleus (energy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800" spc="-1" strike="noStrike">
                <a:solidFill>
                  <a:srgbClr val="9933ff"/>
                </a:solidFill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negatively 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nucleus2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can you tell elements apart by the their ato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tons and electrons are found in all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ch element has a set # of protons called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atomic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g00595_" descr=""/>
          <p:cNvPicPr/>
          <p:nvPr/>
        </p:nvPicPr>
        <p:blipFill>
          <a:blip r:embed="rId2"/>
          <a:stretch/>
        </p:blipFill>
        <p:spPr>
          <a:xfrm>
            <a:off x="0" y="2133720"/>
            <a:ext cx="2516040" cy="3047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57400" y="4800600"/>
            <a:ext cx="175248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002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soto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that have the same # of protons but different #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identify a isotope by its mass # (the sum of its protons plus the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sotopes3" descr=""/>
          <p:cNvPicPr/>
          <p:nvPr/>
        </p:nvPicPr>
        <p:blipFill>
          <a:blip r:embed="rId2"/>
          <a:stretch/>
        </p:blipFill>
        <p:spPr>
          <a:xfrm>
            <a:off x="1047600" y="2925720"/>
            <a:ext cx="7048800" cy="393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ces affecting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depends upon the mass and the distance between objects. Atoms have very little mass so gravity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4:55:03Z</dcterms:created>
  <dc:creator>Eduacation Dept</dc:creator>
  <dc:description/>
  <dc:language>en-US</dc:language>
  <cp:lastModifiedBy>sbhsuser</cp:lastModifiedBy>
  <dcterms:modified xsi:type="dcterms:W3CDTF">2002-02-12T02:35:19Z</dcterms:modified>
  <cp:revision>8</cp:revision>
  <dc:subject/>
  <dc:title>Atoms</dc:title>
</cp:coreProperties>
</file>