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5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383-9DC2-4B6E-9008-08157373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30B-A3E5-4ADE-B946-AB89D3FE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366-79CD-48CE-90EF-5B57774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6C5-8FAF-4D1E-A8A0-B762845B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4C7-209C-4D4D-9C1B-08E9860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182-FEE0-49FE-82F2-B7405DF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585-D48F-4128-8C39-8CE7133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A21-0789-4CD7-8630-732B362A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4BF-C437-4E37-844A-9ECD5695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8C8-8033-4491-A0EB-135328BE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5C5-F884-4187-815D-256F0E9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112-0C99-4A24-9CD1-A877737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9F7-53AA-4592-A3F5-64202D82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 Tak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1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mat &amp; Appl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7215_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419720" cy="353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718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nell is a style of note taking used to reinforce what was lectured on in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reference tool and study aid before a big t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295280"/>
            <a:ext cx="0" cy="5562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428_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2133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How do I tak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71800" y="9907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)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Set up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ld paper 2.5 inches from the left (used for your thoughts and id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ame, class, period, topic, date at top of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295280"/>
            <a:ext cx="0" cy="358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2209680" cy="31240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/27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2590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How do I take notes during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90920" y="1218960"/>
            <a:ext cx="3200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 Black"/>
              </a:rPr>
              <a:t>On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thoughts, comments, ideas about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ll this be on the T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 about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295280"/>
            <a:ext cx="0" cy="5562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84960" y="10317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219320"/>
            <a:ext cx="3200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 Black"/>
              </a:rPr>
              <a:t>On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y down everything that is important from the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3716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dea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121932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How do I determine what is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00400" y="12193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it is on an overhead or chalkboa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If the teacher writes it down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write it d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the teacher says it more than o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it is discussed in your text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295280"/>
            <a:ext cx="0" cy="5562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g00039_" descr=""/>
          <p:cNvPicPr/>
          <p:nvPr/>
        </p:nvPicPr>
        <p:blipFill>
          <a:blip r:embed="rId2"/>
          <a:stretch/>
        </p:blipFill>
        <p:spPr>
          <a:xfrm>
            <a:off x="228600" y="4929120"/>
            <a:ext cx="2743200" cy="1536840"/>
          </a:xfrm>
          <a:prstGeom prst="rect">
            <a:avLst/>
          </a:prstGeom>
          <a:ln w="0">
            <a:noFill/>
          </a:ln>
        </p:spPr>
      </p:pic>
      <p:pic>
        <p:nvPicPr>
          <p:cNvPr id="67" name="pe01902_" descr=""/>
          <p:cNvPicPr/>
          <p:nvPr/>
        </p:nvPicPr>
        <p:blipFill>
          <a:blip r:embed="rId3"/>
          <a:stretch/>
        </p:blipFill>
        <p:spPr>
          <a:xfrm>
            <a:off x="7364520" y="1447920"/>
            <a:ext cx="177948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hat do I do with my notes after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71800" y="9907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rite down questions &amp; ke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r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edict possible test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ke notes next to anything you don’t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295280"/>
            <a:ext cx="0" cy="5562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g00030_" descr=""/>
          <p:cNvPicPr/>
          <p:nvPr/>
        </p:nvPicPr>
        <p:blipFill>
          <a:blip r:embed="rId2"/>
          <a:stretch/>
        </p:blipFill>
        <p:spPr>
          <a:xfrm>
            <a:off x="457200" y="5189400"/>
            <a:ext cx="1714680" cy="16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How can  I use my notes before a te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BY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ke stars next to important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light notes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using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2 colors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view their notes to see if you missed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iz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ach them the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0:25:21Z</dcterms:created>
  <dc:creator>sbhsuser</dc:creator>
  <dc:description/>
  <dc:language>en-US</dc:language>
  <cp:lastModifiedBy>sbhsuser</cp:lastModifiedBy>
  <dcterms:modified xsi:type="dcterms:W3CDTF">2002-02-12T02:26:18Z</dcterms:modified>
  <cp:revision>4</cp:revision>
  <dc:subject/>
  <dc:title>Cornell Note Taking</dc:title>
</cp:coreProperties>
</file>