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5.wmf" ContentType="image/x-wmf"/>
  <Override PartName="/ppt/media/image11.png" ContentType="image/png"/>
  <Override PartName="/ppt/media/image6.gif" ContentType="image/gif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474-77FD-4AEA-B35A-3EC88280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E84-544A-4BF8-A996-E49AD0A6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B63-A759-4FB3-B009-0685A4F5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564-D483-433F-9307-83FC6243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C33-4D8F-46A9-98EC-663E87D5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95D-A927-4B70-BA4C-38850CD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FEE-426A-498D-897F-B4DFBF4F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B94-2BC9-46CB-8732-3A0551D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D2B-F295-407D-B1FF-8E70B8A8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E4F-5B16-4D8B-AB1C-89D4072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86E-82F2-4C0C-A1E8-4E955B1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DF5-02CC-448E-91E8-90CDA263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8CB9-0A06-4058-975D-98E7F5E14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History of the Atomic Theo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564_" descr=""/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273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historic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thing in their world. Rocks, plants, animals, the sky, wea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ed to know about everything in the world just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01713_" descr=""/>
          <p:cNvPicPr/>
          <p:nvPr/>
        </p:nvPicPr>
        <p:blipFill>
          <a:blip r:embed="rId2"/>
          <a:stretch/>
        </p:blipFill>
        <p:spPr>
          <a:xfrm>
            <a:off x="0" y="2514600"/>
            <a:ext cx="3809880" cy="306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Prehistoric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 of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toms, everything was made of and controlled by powerful forces or spir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ere they true scientists? Why or Why no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e01712_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768760" cy="2837160"/>
          </a:xfrm>
          <a:prstGeom prst="rect">
            <a:avLst/>
          </a:prstGeom>
          <a:ln w="0">
            <a:noFill/>
          </a:ln>
        </p:spPr>
      </p:pic>
      <p:pic>
        <p:nvPicPr>
          <p:cNvPr id="50" name="ag00410_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2194200" cy="275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Greeks/Romans: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 700 BC to 500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Every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every culture in a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systema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logic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lieved that the world was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logical</a:t>
            </a:r>
            <a:r>
              <a:rPr b="1" lang="en-US" sz="30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ratio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ould be studied and understood if you carefully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observ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thou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deb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sked:                                   </a:t>
            </a:r>
            <a:r>
              <a:rPr b="1" i="1" lang="en-US" sz="3000" spc="-1" strike="noStrike">
                <a:solidFill>
                  <a:srgbClr val="ff3300"/>
                </a:solidFill>
                <a:latin typeface="Arial"/>
              </a:rPr>
              <a:t>What is everything made of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istotle" descr=""/>
          <p:cNvPicPr/>
          <p:nvPr/>
        </p:nvPicPr>
        <p:blipFill>
          <a:blip r:embed="rId2"/>
          <a:stretch/>
        </p:blipFill>
        <p:spPr>
          <a:xfrm>
            <a:off x="0" y="1523880"/>
            <a:ext cx="240516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bd10877_" descr=""/>
          <p:cNvPicPr/>
          <p:nvPr/>
        </p:nvPicPr>
        <p:blipFill>
          <a:blip r:embed="rId3"/>
          <a:stretch/>
        </p:blipFill>
        <p:spPr>
          <a:xfrm>
            <a:off x="379440" y="4419720"/>
            <a:ext cx="173052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Greeks/Romans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48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Scient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tter is made up of very small, indivisible particles calle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ubstances are made of different size, shape and colore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are always moving and joining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infinite number of atoms in our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tom1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119556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atom1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05552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Alchemists (Medieval Scientists)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600 AD to 1500 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veryth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as made of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nalyz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chemical and physical properties of 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ed to turn lead into gold, to make the “Elixir of Life” to cure diseases and allow you to li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Do YOU think they were successful?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Alchem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33920" y="11426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new elements, compounds, and metal all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aboratory tools an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Kept it a secr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d10917_" descr=""/>
          <p:cNvPicPr/>
          <p:nvPr/>
        </p:nvPicPr>
        <p:blipFill>
          <a:blip r:embed="rId2"/>
          <a:stretch/>
        </p:blipFill>
        <p:spPr>
          <a:xfrm>
            <a:off x="0" y="213372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John Dalton &amp; other 19</a:t>
            </a:r>
            <a:r>
              <a:rPr b="0" lang="en-US" sz="4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 century Scient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8120" y="1676160"/>
            <a:ext cx="5867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, meteorology and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is a mixture of gas molecules (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(gas) is compressible because it is mostly empt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 compound of Hydrogen (H) and Oxygen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ohn-dalton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263052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Hydrogen-atom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Dalton &amp; other 19</a:t>
            </a:r>
            <a:r>
              <a:rPr b="1" lang="en-US" sz="4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century Scient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1:54:27Z</dcterms:created>
  <dc:creator>sbhsuser</dc:creator>
  <dc:description/>
  <dc:language>en-US</dc:language>
  <cp:lastModifiedBy>sbhsuser</cp:lastModifiedBy>
  <dcterms:modified xsi:type="dcterms:W3CDTF">2002-02-12T02:29:18Z</dcterms:modified>
  <cp:revision>2</cp:revision>
  <dc:subject/>
  <dc:title>History of the Atomic Theory</dc:title>
</cp:coreProperties>
</file>